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D858B-3294-4D77-B682-70E6A31452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C2B52-6DB3-44E2-BE65-E7C714205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validates – personal stories and experiences are considered valid (accurate/proo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99EA7-6576-44EA-86FD-CE62A6D1D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id coming in…we’ll talk tomor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C6B1C-5CED-4C3D-BD62-FA4CC6AE3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DF3-41C8-4D8F-9F38-A2742FA7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86C-ADDD-4D82-9421-9EDE9D63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4B6-D89C-4988-9E42-0D3E421A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423-9388-42F6-9C5D-69C8613A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BF7-D87B-4A2F-875B-E32B091C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366-0CDD-4613-96CE-4DA74ACA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3E7-7D87-4C29-A343-F96E9578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C83-E477-4152-BDFF-58629D0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B4D-59AC-4515-AD1D-72139BB7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52D-0BC3-4BB9-875C-113E82D7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6F6-5917-40B6-AFFE-1AED4E3D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528-15FD-4915-923E-904B35E0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3982E-29C4-4FF3-8B80-32AB1EFE99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C47F6-712B-4BC6-8948-182FABFBD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da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17440"/>
            <a:ext cx="7772400" cy="31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SKIP PAGES 122 &amp; 123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will use these pages in a couple wee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530440" y="2725560"/>
            <a:ext cx="4305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UP – Top ½ 1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mages or words come to mind when you hear the term “research”? (5 + words or sketches or combo of bo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mages or words come to mind when you hear the term “participatory action research”? (break down all three words to help you) (5 + words or sketches or combo of bot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REATE A T-CH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the TOP ½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ge 12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10"/>
          <p:cNvSpPr/>
          <p:nvPr/>
        </p:nvSpPr>
        <p:spPr>
          <a:xfrm>
            <a:off x="0" y="2174760"/>
            <a:ext cx="9144000" cy="1800"/>
          </a:xfrm>
          <a:prstGeom prst="line">
            <a:avLst/>
          </a:prstGeom>
          <a:ln w="57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2"/>
          <p:cNvSpPr/>
          <p:nvPr/>
        </p:nvSpPr>
        <p:spPr>
          <a:xfrm flipH="1">
            <a:off x="4497480" y="1535040"/>
            <a:ext cx="1440" cy="5322960"/>
          </a:xfrm>
          <a:prstGeom prst="line">
            <a:avLst/>
          </a:prstGeom>
          <a:ln w="57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PAR is and isn’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157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ditional Researc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2174760"/>
            <a:ext cx="4645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conducted by an ‘expert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an outsider to the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‘expert’ collects information and data for their own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often treat residents as “subjec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2157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tory Action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98560" y="2174760"/>
            <a:ext cx="4645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ed by “insiders” who experience the issue(s) firsth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earch validates individual &amp; community experi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is collected with the intention of trying to address or ameliorate (make better)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10"/>
          <p:cNvSpPr/>
          <p:nvPr/>
        </p:nvSpPr>
        <p:spPr>
          <a:xfrm>
            <a:off x="0" y="1855800"/>
            <a:ext cx="9144000" cy="1440"/>
          </a:xfrm>
          <a:prstGeom prst="line">
            <a:avLst/>
          </a:prstGeom>
          <a:ln w="57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2"/>
          <p:cNvSpPr/>
          <p:nvPr/>
        </p:nvSpPr>
        <p:spPr>
          <a:xfrm flipH="1">
            <a:off x="4493880" y="1216080"/>
            <a:ext cx="3240" cy="5322960"/>
          </a:xfrm>
          <a:prstGeom prst="line">
            <a:avLst/>
          </a:prstGeom>
          <a:ln w="57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1"/>
          <p:cNvSpPr/>
          <p:nvPr/>
        </p:nvSpPr>
        <p:spPr>
          <a:xfrm>
            <a:off x="0" y="1143000"/>
            <a:ext cx="91440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nalyzing Sample PAR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142640"/>
            <a:ext cx="4738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lip through the PAR sample projects at your table. Focus on answering these question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e down the title of each pape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ed on the titles, what concern or issue did these students want to address in their commun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e down four or more sections that occur in ALL PAR docu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738680" y="1874880"/>
            <a:ext cx="4230720" cy="275580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5838840" y="597852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tinu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47320"/>
            <a:ext cx="82296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PAR project is the most eye-catching/interesting to you? Focus in on one section of that pap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See my recommendation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the s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ree key poin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is s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779480" y="3294000"/>
            <a:ext cx="58420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FLECTION – Bottom ½ Page 1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rite down two or more questions you’d like to ask the students who completed these PAR pro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questions (at least one) do you have for me knowing the next three months will be focused on our own PAR resear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334200" y="1378080"/>
            <a:ext cx="2352600" cy="235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783480" y="4073400"/>
            <a:ext cx="194472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from REEP will be here on Thursday. Any questions you’d like to ask him about the hearin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hearing coming up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8:23:37Z</dcterms:created>
  <dc:creator>Teacher</dc:creator>
  <dc:description/>
  <dc:language>en-US</dc:language>
  <cp:lastModifiedBy>Teacher</cp:lastModifiedBy>
  <dcterms:modified xsi:type="dcterms:W3CDTF">2012-02-13T17:33:19Z</dcterms:modified>
  <cp:revision>8</cp:revision>
  <dc:subject/>
  <dc:title>SKIP PAGES 122 &amp; 123!! We will use these pages in a couple weeks!</dc:title>
</cp:coreProperties>
</file>